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22280" y="767880"/>
            <a:ext cx="26542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BA95-0D48-4F8E-8C78-7FDBED8D0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2A2B-65D1-45F0-BD72-FFA7A82B9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2222640" y="768240"/>
            <a:ext cx="2654280" cy="383724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E0B-F71C-4B7D-BB9A-787F3B6F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4DAF-2279-45F1-A3E8-F225FF42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49BD-C020-4456-BA84-916644AD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DD98-F897-43E2-9593-1C32FC00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8452-983A-408B-A699-1989EA7A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3830-8776-4CBF-92F0-FDB108B2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0363-8BD1-421A-9AE3-CF5CE691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29EF-EE05-407F-B238-0903C79D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36D5-13F4-41D3-985A-A2334A65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27DE-494E-4EB1-AD9D-06901D11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DFF5-B804-496C-B03F-38F3D289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2B32-F934-47A7-9F7B-BDE5F994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4A67-39EF-41E1-8379-F5B811037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ba2009"/>
          <p:cNvPicPr/>
          <p:nvPr/>
        </p:nvPicPr>
        <p:blipFill>
          <a:blip r:embed="rId1"/>
          <a:stretch/>
        </p:blipFill>
        <p:spPr>
          <a:xfrm>
            <a:off x="76320" y="8305920"/>
            <a:ext cx="6456240" cy="1349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Gmod_cog"/>
          <p:cNvPicPr/>
          <p:nvPr/>
        </p:nvPicPr>
        <p:blipFill>
          <a:blip r:embed="rId2"/>
          <a:stretch/>
        </p:blipFill>
        <p:spPr>
          <a:xfrm>
            <a:off x="228600" y="281160"/>
            <a:ext cx="3124080" cy="2298600"/>
          </a:xfrm>
          <a:prstGeom prst="rect">
            <a:avLst/>
          </a:prstGeom>
          <a:ln w="0">
            <a:noFill/>
          </a:ln>
        </p:spPr>
      </p:pic>
      <p:sp>
        <p:nvSpPr>
          <p:cNvPr id="50" name="Line 8"/>
          <p:cNvSpPr/>
          <p:nvPr/>
        </p:nvSpPr>
        <p:spPr>
          <a:xfrm>
            <a:off x="3429000" y="304920"/>
            <a:ext cx="0" cy="2286000"/>
          </a:xfrm>
          <a:prstGeom prst="line">
            <a:avLst/>
          </a:prstGeom>
          <a:ln w="38160">
            <a:solidFill>
              <a:srgbClr val="0942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3510720" y="22860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362bd"/>
                </a:solidFill>
                <a:latin typeface="Arial Narrow"/>
              </a:rPr>
              <a:t>Database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362bd"/>
                </a:solidFill>
                <a:latin typeface="Arial Narrow"/>
              </a:rPr>
              <a:t>for Biolog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3500280" y="13795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62bd"/>
                </a:solidFill>
                <a:latin typeface="Arial Narrow"/>
              </a:rPr>
              <a:t>Pre-conference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3513240" y="1689120"/>
            <a:ext cx="29638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62bd"/>
                </a:solidFill>
                <a:latin typeface="Arial Narrow"/>
              </a:rPr>
              <a:t>28 October 2009, 2-6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362bd"/>
                </a:solidFill>
                <a:latin typeface="Arial Narrow"/>
              </a:rPr>
              <a:t>http://www.ausbiotech2009.com.au/bia/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362bd"/>
                </a:solidFill>
                <a:latin typeface="Arial Narrow"/>
              </a:rPr>
              <a:t>http://gmod.org/wiki/BA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0"/>
          <p:cNvSpPr/>
          <p:nvPr/>
        </p:nvSpPr>
        <p:spPr>
          <a:xfrm>
            <a:off x="571680" y="2809800"/>
            <a:ext cx="598140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</a:rPr>
              <a:t>Learn how GMOD tools can help you visualize, annotate, and manage your genomic data.  GMOD is a collection of interoperable, open source software components that can help you integrate and share biological data.  GMOD tools are used in a wide range of organizations, from major model organism databases (FlyBase, WormBase, TAIR, …) to single lab install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</a:rPr>
              <a:t>This half-day, pre-conference workshop will introduce the GMOD project and many GMOD tools f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362b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Visualization:</a:t>
            </a: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 GBrowse, JBrowse, GBrowse_syn, CMap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362b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Data Management</a:t>
            </a: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: Chado, BioMart, InterMine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362b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Annotation</a:t>
            </a: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: MAKER, DIYA, Apollo, Textpresso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</a:rPr>
              <a:t>GBrowse, a popular genome browser, will be demonstrated with a worked example.  At the end of this workshop participants will understand which GMOD tools may be useful to them, and have an understanding of the effort required to use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95440" y="7310520"/>
            <a:ext cx="1614240" cy="1071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62320" y="7284960"/>
            <a:ext cx="419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</a:rPr>
              <a:t>This workshop is generously sponsored by Bioplatforms Australia, and admission to the workshop is included in the registration for Bioinformatics Australia 200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04:30:39Z</dcterms:created>
  <dc:creator>GMOD / NESCent</dc:creator>
  <dc:description/>
  <dc:language>en-US</dc:language>
  <cp:lastModifiedBy>GMOD / NESCent</cp:lastModifiedBy>
  <dcterms:modified xsi:type="dcterms:W3CDTF">2009-09-30T16:57:49Z</dcterms:modified>
  <cp:revision>17</cp:revision>
  <dc:subject/>
  <dc:title>PowerPoint Presentation</dc:title>
</cp:coreProperties>
</file>